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1898D-ECE5-402B-9F1F-6E82A39D6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DCC9B-8E01-42D0-9177-F65A45F1B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A980A-F2C6-4374-B258-1A2A64477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0C3B3-EC0C-490F-9031-3D57C990A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D72AB-5386-4C58-9FD9-3109F58CF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9B718-049B-4E92-B254-9D5D49656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98F7B-C283-4ACA-8BF1-E6A534269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34743-4E4B-43FD-807C-919FC62F6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8B50B-1D6D-4A42-90EA-7C8B0BEF9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50A4-9165-4487-B9C5-780C6BA61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8342-F718-4A72-A25B-F9D1986F8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D08C8-099D-48BB-A972-FED90B936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8139-33CF-47BD-88BE-2B4F41C13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Fnh9q_cQcUE&amp;feature=player_embedded" TargetMode="External"/><Relationship Id="rId2" Type="http://schemas.openxmlformats.org/officeDocument/2006/relationships/hyperlink" Target="http://www.youtube.com/watch?v=Fnh9q_cQcUE&amp;feature=player_embedded" TargetMode="External"/><Relationship Id="rId3" Type="http://schemas.openxmlformats.org/officeDocument/2006/relationships/hyperlink" Target="http://www.youtube.com/watch?v=Fnh9q_cQcUE&amp;feature=player_embedded" TargetMode="External"/><Relationship Id="rId4" Type="http://schemas.openxmlformats.org/officeDocument/2006/relationships/hyperlink" Target="http://www.youtube.com/watch?v=Fnh9q_cQcUE&amp;feature=player_embedded"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erve.org/_downloads/REL/EdQuality/Benefit_Cards.doc"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erve.org/_downloads/REL/EdQuality/Step_1_Quotes_from_Experts.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essional Learning Communit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 Learning T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involve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fessional Learning Team meetings you will . .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ogether on a regular basis throughout the school year, using a systematic, organized approach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collectively on teacher learning that leads to greater student learn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ways of increasing teacher knowledge and instructional expertise in a specific area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knowledge and expertise to design and develop materials, tools, and approaches for use with stu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feedback and recommendations about materials, tools, and approach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information about learning team activities and results with the faculty, administration, and other interested group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involve . .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tment from all team memb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ingness to help, support, and trust other team memb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ingness to experiment and get outside traditional mindse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Roles</a:t>
            </a: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80010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or: Key person to help move the agen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taker: Use a templa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pic Decision Follow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 recorder: Records the group’s thinking, Captures key id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keeper: Reminds group as time draws to a close for each item</a:t>
            </a:r>
            <a:endParaRPr b="0" lang="en-US" sz="2400" spc="-1" strike="noStrike">
              <a:solidFill>
                <a:srgbClr val="000000"/>
              </a:solidFill>
              <a:latin typeface="Arial"/>
            </a:endParaRPr>
          </a:p>
        </p:txBody>
      </p:sp>
      <p:graphicFrame>
        <p:nvGraphicFramePr>
          <p:cNvPr id="65" name=""/>
          <p:cNvGraphicFramePr/>
          <p:nvPr/>
        </p:nvGraphicFramePr>
        <p:xfrm>
          <a:off x="990720" y="2666880"/>
          <a:ext cx="7314840" cy="685800"/>
        </p:xfrm>
        <a:graphic>
          <a:graphicData uri="http://schemas.openxmlformats.org/drawingml/2006/table">
            <a:tbl>
              <a:tblPr/>
              <a:tblGrid>
                <a:gridCol w="1828800"/>
                <a:gridCol w="1828440"/>
                <a:gridCol w="1828800"/>
                <a:gridCol w="182880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and Procedur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n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lanning/meet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 Discussion, Log/Noteboo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 – place worries, concerns here for later 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revious discussions/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new instructional iss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for research, action pla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concerns (parking lo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ep Written Records: Logs </a:t>
            </a:r>
            <a:br>
              <a:rPr sz="4000"/>
            </a:b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Professional Learning Team meetings team members will study, brainstorm, make decisions, take action, evaluate, reflect, and revise instructional practices. Keeping a written record of this process is important for a number of reaso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Logs chronicle the progress of your team – your struggles and your successes. More important, they provide a record of what you learn, the changes you make that result in improved teaching, and the process by which you go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ogs provide documentation for purposes such as obtaining professional development credit. They can also be used as evidence for your personal professional development plan and your professional evalu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ogs may provide information for a case study or an action research project. Or, they can also become important data for evaluating the effectiveness of Professional Learning Teams in your schoo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earning logs provide wonderful vehicles through which teams can share ideas and practices with the larger school community, and logs can serve as road maps for future teams. The logs may be displayed in a “public” place such as a teacher workroom to get input from other teams and teach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he logs can help your team stay on track by recording where you’ve already been.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ep Written Records: Notebook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team will need a notebook in which to keep a variety of information on your Professional Learning Team. The following items may be kept in your team notebook. Prepare a separate tab for each set of items you include. The following information may be included in your notebook: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members,</a:t>
            </a:r>
            <a:r>
              <a:rPr b="0" lang="en-US" sz="1400" spc="-1" strike="noStrike">
                <a:solidFill>
                  <a:srgbClr val="000000"/>
                </a:solidFill>
                <a:latin typeface="Arial"/>
              </a:rPr>
              <a:t> including names and contact inform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calendar</a:t>
            </a:r>
            <a:r>
              <a:rPr b="0" lang="en-US" sz="1400" spc="-1" strike="noStrike">
                <a:solidFill>
                  <a:srgbClr val="000000"/>
                </a:solidFill>
                <a:latin typeface="Arial"/>
              </a:rPr>
              <a:t> with Professional Learning Team meeting times, key dates, and holidays marked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norms</a:t>
            </a:r>
            <a:r>
              <a:rPr b="0" lang="en-US" sz="1400" spc="-1" strike="noStrike">
                <a:solidFill>
                  <a:srgbClr val="000000"/>
                </a:solidFill>
                <a:latin typeface="Arial"/>
              </a:rPr>
              <a:t> agreed on by team membe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Plan</a:t>
            </a:r>
            <a:r>
              <a:rPr b="0" lang="en-US" sz="1400" spc="-1" strike="noStrike">
                <a:solidFill>
                  <a:srgbClr val="000000"/>
                </a:solidFill>
                <a:latin typeface="Arial"/>
              </a:rPr>
              <a:t> and any learning plan revisio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log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work.</a:t>
            </a:r>
            <a:r>
              <a:rPr b="0" lang="en-US" sz="1400" spc="-1" strike="noStrike">
                <a:solidFill>
                  <a:srgbClr val="000000"/>
                </a:solidFill>
                <a:latin typeface="Arial"/>
              </a:rPr>
              <a:t> In this section include copies of effective lessons and new strategies developed and/or used to accomplish your team go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progress. </a:t>
            </a:r>
            <a:r>
              <a:rPr b="0" lang="en-US" sz="1400" spc="-1" strike="noStrike">
                <a:solidFill>
                  <a:srgbClr val="000000"/>
                </a:solidFill>
                <a:latin typeface="Arial"/>
              </a:rPr>
              <a:t>Include results, data, and evidence of progres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a:t>
            </a:r>
            <a:r>
              <a:rPr b="0" lang="en-US" sz="1400" spc="-1" strike="noStrike">
                <a:solidFill>
                  <a:srgbClr val="000000"/>
                </a:solidFill>
                <a:latin typeface="Arial"/>
              </a:rPr>
              <a:t> Keep a list of resources needed (add to this list during meetings as needs aris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 materials. </a:t>
            </a:r>
            <a:r>
              <a:rPr b="0" lang="en-US" sz="1400" spc="-1" strike="noStrike">
                <a:solidFill>
                  <a:srgbClr val="000000"/>
                </a:solidFill>
                <a:latin typeface="Arial"/>
              </a:rPr>
              <a:t>Keep a copy of learning team procedures and handouts from training sessions for referen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ticles</a:t>
            </a:r>
            <a:r>
              <a:rPr b="0" lang="en-US" sz="1400" spc="-1" strike="noStrike">
                <a:solidFill>
                  <a:srgbClr val="000000"/>
                </a:solidFill>
                <a:latin typeface="Arial"/>
              </a:rPr>
              <a:t> and other print resources related to your Professional Learning Team work (Note: If you begin to collect a number of articles and information pertaining to your team's learning goal, you may want to move those items to a separate notebook.)</a:t>
            </a:r>
            <a:br>
              <a:rPr sz="1400"/>
            </a:br>
            <a:r>
              <a:rPr b="0" lang="en-US" sz="1400" spc="-1" strike="noStrike">
                <a:solidFill>
                  <a:srgbClr val="000000"/>
                </a:solidFill>
                <a:latin typeface="Arial"/>
              </a:rPr>
              <a:t>Decide where your team will keep the notebook. If possible, this should be a location where team members, the principal, a facilitator, and others could access it without disrupting a class.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sources will each team need to start with?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notebook (3-ring binde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tabs for the notebook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calendar for the school year, with holidays and important dates marke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 paper and marke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log forms (one for each learning team meeting, unless teams will use computers or another means of documenting meeting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the learning team proces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lating to the student need(s) the team will addres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Expectation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team members exhib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ment to the team and its goal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respect and understand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ngness to help, support, and trust one anoth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ial participation that creates a comfortable atmosphere for sharing both successes and failu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 for discussion, debate, and disagreem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ngness to question, get outside current mindsets, and be open to new ideas and solution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Types of Data</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 Formal assessments, End of chapter tests, Semester or end of trimester exams (Teacher-made tests, Portfolios, Standardized tests, Projects, Report card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Type/quality of instruction, Things/initiatives school has done to increase student achievement, Teachers share their pract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Ethnic groups, Gender, Economic levels, Languag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utcom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y PLC is an important attribute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ic change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framework of a 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protocols to analyze data and results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ous impro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PLC is a process with a foc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 lea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eflection</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data we examin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ght our atten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ncouraged us the mos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rned us the mos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his data raised for u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 for what our learning teams should addres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Goals</a:t>
            </a:r>
            <a:endParaRPr b="0" lang="en-US" sz="4400" spc="-1" strike="noStrike">
              <a:solidFill>
                <a:srgbClr val="000000"/>
              </a:solidFill>
              <a:latin typeface="Arial"/>
            </a:endParaRPr>
          </a:p>
        </p:txBody>
      </p:sp>
      <p:pic>
        <p:nvPicPr>
          <p:cNvPr id="85" name="" descr=""/>
          <p:cNvPicPr/>
          <p:nvPr/>
        </p:nvPicPr>
        <p:blipFill>
          <a:blip r:embed="rId1"/>
          <a:stretch/>
        </p:blipFill>
        <p:spPr>
          <a:xfrm>
            <a:off x="990720" y="1752480"/>
            <a:ext cx="7029360" cy="3861000"/>
          </a:xfrm>
          <a:prstGeom prst="rect">
            <a:avLst/>
          </a:prstGeom>
          <a:ln w="0">
            <a:noFill/>
          </a:ln>
        </p:spPr>
      </p:pic>
      <p:sp>
        <p:nvSpPr>
          <p:cNvPr id="3" name="PlaceHolder 2"/>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professions work as teams?</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uld you prefer to be?</a:t>
            </a:r>
            <a:endParaRPr b="0" lang="en-US" sz="3200" spc="-1" strike="noStrike">
              <a:solidFill>
                <a:srgbClr val="000000"/>
              </a:solidFill>
              <a:latin typeface="Arial"/>
            </a:endParaRPr>
          </a:p>
        </p:txBody>
      </p:sp>
      <p:pic>
        <p:nvPicPr>
          <p:cNvPr id="47" name="" descr=""/>
          <p:cNvPicPr/>
          <p:nvPr/>
        </p:nvPicPr>
        <p:blipFill>
          <a:blip r:embed="rId1"/>
          <a:stretch/>
        </p:blipFill>
        <p:spPr>
          <a:xfrm>
            <a:off x="762120" y="2971800"/>
            <a:ext cx="3047760" cy="2114640"/>
          </a:xfrm>
          <a:prstGeom prst="rect">
            <a:avLst/>
          </a:prstGeom>
          <a:ln w="0">
            <a:noFill/>
          </a:ln>
        </p:spPr>
      </p:pic>
      <p:pic>
        <p:nvPicPr>
          <p:cNvPr id="48" name="" descr=""/>
          <p:cNvPicPr/>
          <p:nvPr/>
        </p:nvPicPr>
        <p:blipFill>
          <a:blip r:embed="rId2"/>
          <a:stretch/>
        </p:blipFill>
        <p:spPr>
          <a:xfrm>
            <a:off x="5029200" y="2819520"/>
            <a:ext cx="3048120" cy="2257200"/>
          </a:xfrm>
          <a:prstGeom prst="rect">
            <a:avLst/>
          </a:prstGeom>
          <a:ln w="0">
            <a:noFill/>
          </a:ln>
        </p:spPr>
      </p:pic>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2"/>
          <p:cNvSpPr>
            <a:spLocks noGrp="1"/>
          </p:cNvSpPr>
          <p:nvPr>
            <p:ph/>
          </p:nvPr>
        </p:nvSpPr>
        <p:spPr>
          <a:xfrm>
            <a:off x="30492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youtube.com/watch?v</a:t>
            </a:r>
            <a:r>
              <a:rPr b="0" lang="en-US" sz="2400" spc="-1" strike="noStrike" u="sng">
                <a:solidFill>
                  <a:srgbClr val="009999"/>
                </a:solidFill>
                <a:uFillTx/>
                <a:latin typeface="Arial"/>
                <a:hlinkClick r:id="rId3"/>
              </a:rPr>
              <a:t>=Fnh9q_cQcUE&amp;feature=</a:t>
            </a:r>
            <a:r>
              <a:rPr b="0" lang="en-US" sz="2400" spc="-1" strike="noStrike" u="sng">
                <a:solidFill>
                  <a:srgbClr val="009999"/>
                </a:solidFill>
                <a:uFillTx/>
                <a:latin typeface="Arial"/>
                <a:hlinkClick r:id="rId4"/>
              </a:rPr>
              <a:t>player_embedd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Fou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want each student to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know when each student has learned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respond when a student experiences difficulty in lear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benefi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Benefits? </a:t>
            </a:r>
            <a:r>
              <a:rPr b="0" lang="en-US" sz="1800" spc="-1" strike="noStrike">
                <a:solidFill>
                  <a:srgbClr val="000000"/>
                </a:solidFill>
                <a:latin typeface="Arial"/>
              </a:rPr>
              <a:t>Purpose: Use this activity to help teachers reflect on the benefits of working together in Professional Learning Teams. </a:t>
            </a:r>
            <a:r>
              <a:rPr b="1" lang="en-US" sz="1800" spc="-1" strike="noStrike">
                <a:solidFill>
                  <a:srgbClr val="000000"/>
                </a:solidFill>
                <a:latin typeface="Arial"/>
              </a:rPr>
              <a:t>Description:</a:t>
            </a:r>
            <a:r>
              <a:rPr b="0" lang="en-US" sz="1800" spc="-1" strike="noStrike">
                <a:solidFill>
                  <a:srgbClr val="000000"/>
                </a:solidFill>
                <a:latin typeface="Arial"/>
              </a:rPr>
              <a:t> This activity contains ten </a:t>
            </a:r>
            <a:r>
              <a:rPr b="0" lang="en-US" sz="1800" spc="-1" strike="noStrike" u="sng">
                <a:solidFill>
                  <a:srgbClr val="009999"/>
                </a:solidFill>
                <a:uFillTx/>
                <a:latin typeface="Arial"/>
                <a:hlinkClick r:id="rId1"/>
              </a:rPr>
              <a:t>Benefits Cards</a:t>
            </a:r>
            <a:r>
              <a:rPr b="0" lang="en-US" sz="1800" spc="-1" strike="noStrike" u="sng">
                <a:solidFill>
                  <a:srgbClr val="000000"/>
                </a:solidFill>
                <a:uFillTx/>
                <a:latin typeface="Arial"/>
              </a:rPr>
              <a:t>, each of which describes a benefit of teacher collaboration. Each card includes a statement of a benefit, a brief explanation, and a pertinent quote from a respected expert. </a:t>
            </a:r>
            <a:r>
              <a:rPr b="1" lang="en-US" sz="1800" spc="-1" strike="noStrike">
                <a:solidFill>
                  <a:srgbClr val="000000"/>
                </a:solidFill>
                <a:latin typeface="Arial"/>
              </a:rPr>
              <a:t>Proced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the cards apart and distribute them among teach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teachers time read and reflect on their Benefits Car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ite teachers to briefly share the information on their cards with the group, using their own wor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ll Benefit Cards have been shared, ask each teacher to write down three benefits that he or she thinks are especially important. This will help teachers process and prioritize this in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 that teachers share their three top benefits with their table group and explain why they chose these three. If teachers are not at tables, ask volunteers to share with the whole group.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 experts sa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Use this activity to provide teachers with additional evidence that teacher collaboration is a researched and effective process for building teacher expertis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r>
              <a:rPr b="0" lang="en-US" sz="1600" spc="-1" strike="noStrike">
                <a:solidFill>
                  <a:srgbClr val="000000"/>
                </a:solidFill>
                <a:latin typeface="Arial"/>
              </a:rPr>
              <a:t> This activity offers a series of thought-provoking </a:t>
            </a:r>
            <a:r>
              <a:rPr b="0" lang="en-US" sz="1600" spc="-1" strike="noStrike" u="sng">
                <a:solidFill>
                  <a:srgbClr val="009999"/>
                </a:solidFill>
                <a:uFillTx/>
                <a:latin typeface="Arial"/>
                <a:hlinkClick r:id="rId1"/>
              </a:rPr>
              <a:t>quotes from experts </a:t>
            </a:r>
            <a:r>
              <a:rPr b="0" lang="en-US" sz="1600" spc="-1" strike="noStrike" u="sng">
                <a:solidFill>
                  <a:srgbClr val="000000"/>
                </a:solidFill>
                <a:uFillTx/>
                <a:latin typeface="Arial"/>
              </a:rPr>
              <a:t>on teaching quality and teacher collaboration. These can stimulate interest in engaging in a learning team proces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a:t>
            </a:r>
            <a:r>
              <a:rPr b="0" lang="en-US" sz="1600" spc="-1" strike="noStrike">
                <a:solidFill>
                  <a:srgbClr val="000000"/>
                </a:solidFill>
                <a:latin typeface="Arial"/>
              </a:rPr>
              <a:t>Invite teachers to explore these quotes in more depth by using a read-and-share strategy (see below). Or, transform these quotes into a series of posters and display them in team meeting areas to help keep the importance of what teams are doing on the front burn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and shar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enough copies of the quotes for each team of 3–4 teachers to have one. Cut the quotes apar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 the quotes so that each team of teachers has a complete se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k teachers in each team to select and read a quote, summarize the main idea, and to share that with others in their team. Invite teachers to discuss their ideas about each quote as it is discuss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teams time to read and discuss the eight quot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Research</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s both inside and outside of education have concluded th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improvement in student achievement is characterized by a shar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of collaborative teams actively engaged in continuous improvement bas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tudent learning resul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Professional Learning Communities at Work</a:t>
            </a:r>
            <a:r>
              <a:rPr b="0" lang="en-US" sz="1200" spc="-1" strike="noStrike">
                <a:solidFill>
                  <a:srgbClr val="000000"/>
                </a:solidFill>
                <a:latin typeface="Arial"/>
              </a:rPr>
              <a:t>, DuFour &amp; Eaker (1998)</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of the most powerful lessons learned is that those who make the mos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in becoming a professional learning community are those who tak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make mistakes, learn from their mistakes, and begin again mo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atever It Takes</a:t>
            </a:r>
            <a:r>
              <a:rPr b="0" lang="en-US" sz="1200" spc="-1" strike="noStrike">
                <a:solidFill>
                  <a:srgbClr val="000000"/>
                </a:solidFill>
                <a:latin typeface="Arial"/>
              </a:rPr>
              <a:t>, DuFour, DuFour, Eaker, &amp; Karhanek (2004)</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number of school systems have transformed their accountability system t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positive and meaningful feedback to teachers, students a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to showcase teacher professionalism as an integral part of</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ve accountabilit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ccountability for Learning</a:t>
            </a:r>
            <a:r>
              <a:rPr b="0" lang="en-US" sz="1200" spc="-1" strike="noStrike">
                <a:solidFill>
                  <a:srgbClr val="000000"/>
                </a:solidFill>
                <a:latin typeface="Arial"/>
              </a:rPr>
              <a:t>, Reeves (2004)</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a-analysis of 70 school leadership studies correlated effective use of 2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ership responsibilities by the principal and leadership team to a 10% gain i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alanced Leadership</a:t>
            </a:r>
            <a:r>
              <a:rPr b="0" lang="en-US" sz="1200" spc="-1" strike="noStrike">
                <a:solidFill>
                  <a:srgbClr val="000000"/>
                </a:solidFill>
                <a:latin typeface="Arial"/>
              </a:rPr>
              <a:t>, Waters, Marzano, &amp; McNulty (2003</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ork together?</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growing body of knowledge points out that . . .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eachers need to continually update their knowledge and skill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eacher collaboration is the most effective method for doing thi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21:34:24Z</dcterms:created>
  <dc:creator>Carolyn Beitzel</dc:creator>
  <dc:description/>
  <dc:language>en-US</dc:language>
  <cp:lastModifiedBy>Carolyn Beitzel</cp:lastModifiedBy>
  <dcterms:modified xsi:type="dcterms:W3CDTF">2009-08-05T22:36:21Z</dcterms:modified>
  <cp:revision>9</cp:revision>
  <dc:subject/>
  <dc:title>Professional Learning Communities </dc:title>
</cp:coreProperties>
</file>